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camera.wav" ContentType="audio/x-wav"/>
  <Override PartName="/ppt/media/image7.png" ContentType="image/png"/>
  <Override PartName="/ppt/media/carbrak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CAB6-6F53-4B53-8264-93E030182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A95A-28EE-458B-9E9B-5ADB43E4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EBD9-34A0-4A5F-8417-6712DAFB0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19E7-988B-4CCE-8BB0-73553A762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D077-89A9-4AF2-9712-7BED1AD89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3E83-BD12-4EF7-852E-39B7F84E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847E-6738-445B-BE56-6B19353E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E223-436E-4574-811D-FB4A8A83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621F-0C7C-48DD-A7F4-73DA3A4F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04D2-FFA5-494A-873B-06C32680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A12C-AD6E-40A6-9357-BBC37873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E9A2-F154-478F-9B76-8B3A9ED9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0A62-EB20-4815-9771-519C9CB4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E675-8576-4788-8DB6-5232B527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8C42-EE20-45EF-9828-BF452EFA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13CF-D927-4D49-82CA-110298799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8CA6-9ADF-4C59-A142-EFD1AAE25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88C1-A9C7-4BC1-B3A9-80541D2E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395F-11F9-4B3D-95CD-017F9639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E598-AA90-4C0D-8662-07C4A499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FD01-2682-4435-97DE-BA39B0B9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3010-1615-4B10-803F-933B7AF7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1B32-E963-4F8F-ABAA-1527E6A3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FE4B-1A31-4590-9205-B85E8567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4972-5AF4-4660-8C62-CE4CCE62AF2C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BA4A-10A5-4FC4-8504-4D7893BBA9C7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Punctuatio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Periods, Question Marks, and Exclamation Point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Colons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64c"/>
                </a:solidFill>
                <a:latin typeface="Times New Roman"/>
              </a:rPr>
              <a:t>Use a colon after a complete sentence to which you want to attach a list, an appositive, or a quotation.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Listed item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If you really want to lose weight, you must do three things:  eat smaller portions, exercise, and drink lots of water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ally named her daughters after three Christian virtues:  faith, hope, and charity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Listed Item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When the lead-in words at the end of an independent clause are </a:t>
            </a:r>
            <a:r>
              <a:rPr b="1" i="1" lang="en-US" sz="3200" spc="-1" strike="noStrike">
                <a:solidFill>
                  <a:srgbClr val="00264c"/>
                </a:solidFill>
                <a:latin typeface="Times New Roman"/>
              </a:rPr>
              <a:t>such as, including, like, 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and </a:t>
            </a:r>
            <a:r>
              <a:rPr b="1" i="1" lang="en-US" sz="3200" spc="-1" strike="noStrike">
                <a:solidFill>
                  <a:srgbClr val="00264c"/>
                </a:solidFill>
                <a:latin typeface="Times New Roman"/>
              </a:rPr>
              <a:t>consists of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, don’t use a colon.”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The students demanded improvements such as an expanded menu in the cafeteria, improved janitorial services, and more up to date textbook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Appositiv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When an appositive is introduced by a sentence, use a colon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Only cats would likely approve of one old-fashioned remedy for cuts:  a lotion, of catnip, butter, and sugar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Quotatio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sentence (independent clause) may be used to introduce a quotation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e little boy in E. T. did say something neat:  “How do you explain school to a higher intelligence?”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Other Uses for Colon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itle and subtitl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ivilian tim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Biblical referenc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Memos and letter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emicolo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semicolon is used between two sentences that are closely connected in meaning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Independent clause; independent claus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s is my husband’s second marriage; it’s the first for me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emicolon Pattern II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Independent clause; conjunctive adverb, independent clause.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(Conjunctive adverbs)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e average rainfall in Death Valley is about two inches; nevertheless, hundreds of plant and animal species survive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emicolon Pattern II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Independent clause; transitional expression, independent clause (transitional expression)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Photographers have spent years recording desert life cycles; as a result, we can watch bare sand flower after a spring storm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omma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796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264c"/>
                </a:solidFill>
                <a:latin typeface="Times New Roman"/>
              </a:rPr>
              <a:t>The most frequently used and misused piece of punctuation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32" name="Picture 7" descr="punctuation2"/>
          <p:cNvPicPr/>
          <p:nvPr/>
        </p:nvPicPr>
        <p:blipFill>
          <a:blip r:embed="rId1"/>
          <a:stretch/>
        </p:blipFill>
        <p:spPr>
          <a:xfrm>
            <a:off x="228600" y="1900080"/>
            <a:ext cx="434340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When to Us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period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ends a statement, a mild command, or an INDIRECT QUESTION.”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question mark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ends a direct question, one that quotes the exact words.”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n 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exclamation point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ends a strong command or an emphatic declaration.”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omma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omma before coordinating conjunctions that link independent clause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onjunctions:  and, but, or, nor, for, so, or yet.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ommas with introductory element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comma follows an introductory word, phrase, or clause that comes before an independent clause (sentence)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Nevertheless, many people think fructose isn’t harmful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o satisfy a craving for ice cream, even timid people sometimes brave midnight street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When the topic is dieting, many people say sugar craving is their worst problem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ommas in a seri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series is a group of three or more words, phrases, and clauses that match in grammatical form.  They should be of equal importance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Marriage requires sexual, financial, and emotional discipline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My love of flying goes back to those early days of roller skates, of swings, and of bicycle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ommas with quoted word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Explanatory words such as </a:t>
            </a:r>
            <a:r>
              <a:rPr b="0" i="1" lang="en-US" sz="3200" spc="-1" strike="noStrike">
                <a:solidFill>
                  <a:srgbClr val="00264c"/>
                </a:solidFill>
                <a:latin typeface="Times New Roman"/>
              </a:rPr>
              <a:t>said, stated, declared,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nd others introduce DIRECT DISCOURSE”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People speaking directly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Quoting the words from an outside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ource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peaking of ideal love, the poet William Blake wrote, “Love seeketh not itself to please.”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I love no love,” proclaimed poet Mary Coleridge,” but thee.”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ommas with nonrestrictive element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nonrestrictive element contains information that’s </a:t>
            </a:r>
            <a:r>
              <a:rPr b="0" i="1" lang="en-US" sz="3200" spc="-1" strike="noStrike">
                <a:solidFill>
                  <a:srgbClr val="00264c"/>
                </a:solidFill>
                <a:latin typeface="Times New Roman"/>
              </a:rPr>
              <a:t>not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essential to the sentence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*commas are required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264c"/>
                </a:solidFill>
                <a:latin typeface="Times New Roman"/>
              </a:rPr>
              <a:t>restrictive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element contains information essential to the sentence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My parents, who are both over sixty-five, took a defensive driving course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Many U.S. states  retest drivers who are over sixty-five to check their driving competency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ther “nonessential”/parenthetical elemen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525400"/>
            <a:ext cx="777240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Use commas for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Transitional  or parenthetical expression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Contrast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Words of direct addres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Tag sentenc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Punctuatio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postrophes, Colons, Semicolons, and Comma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alifornia and Florida, for example, are important food producer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merican Farmers, according to U.S. government figures, export more wheat than they sell at home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eeding the world’s population is a serious, though not impossible, problem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8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3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Types of Punctuatio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9" name="Picture 7" descr="punctuation"/>
          <p:cNvPicPr/>
          <p:nvPr/>
        </p:nvPicPr>
        <p:blipFill>
          <a:blip r:embed="rId1"/>
          <a:stretch/>
        </p:blipFill>
        <p:spPr>
          <a:xfrm>
            <a:off x="1828800" y="1600200"/>
            <a:ext cx="56386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Apostroph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1" name="Picture 5" descr="apostrophes"/>
          <p:cNvPicPr/>
          <p:nvPr/>
        </p:nvPicPr>
        <p:blipFill>
          <a:blip r:embed="rId1"/>
          <a:stretch/>
        </p:blipFill>
        <p:spPr>
          <a:xfrm>
            <a:off x="304920" y="1996920"/>
            <a:ext cx="3581280" cy="4023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62520" y="1904760"/>
            <a:ext cx="449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64c"/>
                </a:solidFill>
                <a:latin typeface="Times New Roman"/>
              </a:rPr>
              <a:t>Possessive Case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64c"/>
                </a:solidFill>
                <a:latin typeface="Times New Roman"/>
              </a:rPr>
              <a:t>Contractions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64c"/>
                </a:solidFill>
                <a:latin typeface="Times New Roman"/>
              </a:rPr>
              <a:t>Plurals for letters and numbers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Apostroph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Contractions – the apostrophe takes the place of letters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it’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don’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you’r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796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Plural of numbers and letter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A’s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1990’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&amp;’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Apostrophes – Possessive Cas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An apostrophe works with a NOUN to form the POSSESSIVE CASE, which shows ownership or a close relationship.”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Sally’s dress</a:t>
            </a: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John’s anger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your car’s battery</a:t>
            </a: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the Supreme Court’s          </a:t>
            </a: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ruling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How to Use an Apostroph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dd </a:t>
            </a:r>
            <a:r>
              <a:rPr b="0" i="1" lang="en-US" sz="3200" spc="-1" strike="noStrike">
                <a:solidFill>
                  <a:srgbClr val="00264c"/>
                </a:solidFill>
                <a:latin typeface="Times New Roman"/>
              </a:rPr>
              <a:t>‘s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to nouns not ending in </a:t>
            </a:r>
            <a:r>
              <a:rPr b="0" i="1" lang="en-US" sz="3200" spc="-1" strike="noStrike">
                <a:solidFill>
                  <a:srgbClr val="00264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dd </a:t>
            </a:r>
            <a:r>
              <a:rPr b="0" i="1" lang="en-US" sz="3200" spc="-1" strike="noStrike">
                <a:solidFill>
                  <a:srgbClr val="00264c"/>
                </a:solidFill>
                <a:latin typeface="Times New Roman"/>
              </a:rPr>
              <a:t>‘s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to singular nouns ending in </a:t>
            </a:r>
            <a:r>
              <a:rPr b="0" i="1" lang="en-US" sz="3200" spc="-1" strike="noStrike">
                <a:solidFill>
                  <a:srgbClr val="00264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dd only an apostrophe to a plural noun ending in </a:t>
            </a:r>
            <a:r>
              <a:rPr b="0" i="1" lang="en-US" sz="3200" spc="-1" strike="noStrike">
                <a:solidFill>
                  <a:srgbClr val="00264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How to Us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5800" y="1905120"/>
          <a:ext cx="7772400" cy="419076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Ends in </a:t>
                      </a:r>
                      <a:r>
                        <a:rPr b="1" i="1" lang="en-US" sz="32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</a:t>
                      </a:r>
                      <a:endParaRPr b="0" lang="en-US" sz="3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oes not end in </a:t>
                      </a:r>
                      <a:r>
                        <a:rPr b="1" i="1" lang="en-US" sz="32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</a:t>
                      </a:r>
                      <a:endParaRPr b="0" lang="en-US" sz="3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13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ingular Nouns</a:t>
                      </a:r>
                      <a:endParaRPr b="0" lang="en-US" sz="3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‘</a:t>
                      </a:r>
                      <a:r>
                        <a:rPr b="1" lang="en-US" sz="4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</a:t>
                      </a:r>
                      <a:endParaRPr b="0" lang="en-US" sz="4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‘</a:t>
                      </a:r>
                      <a:r>
                        <a:rPr b="1" lang="en-US" sz="4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</a:t>
                      </a:r>
                      <a:endParaRPr b="0" lang="en-US" sz="4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a9d7ce"/>
                    </a:solidFill>
                  </a:tcPr>
                </a:tc>
              </a:tr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lural Nouns</a:t>
                      </a:r>
                      <a:endParaRPr b="0" lang="en-US" sz="3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‘</a:t>
                      </a:r>
                      <a:endParaRPr b="0" lang="en-US" sz="4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a9d7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‘</a:t>
                      </a:r>
                      <a:r>
                        <a:rPr b="1" lang="en-US" sz="4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</a:t>
                      </a:r>
                      <a:endParaRPr b="0" lang="en-US" sz="4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5T16:03:23Z</dcterms:created>
  <dc:creator>/david /f. Hubbekk</dc:creator>
  <dc:description/>
  <dc:language>en-US</dc:language>
  <cp:lastModifiedBy>instructor</cp:lastModifiedBy>
  <dcterms:modified xsi:type="dcterms:W3CDTF">2011-02-02T01:53:06Z</dcterms:modified>
  <cp:revision>19</cp:revision>
  <dc:subject/>
  <dc:title>Punctuation</dc:title>
</cp:coreProperties>
</file>